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57.wmf" ContentType="image/x-wmf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27.wmf" ContentType="image/x-wmf"/>
  <Override PartName="/ppt/media/image4.wmf" ContentType="image/x-wmf"/>
  <Override PartName="/ppt/media/image34.wmf" ContentType="image/x-wmf"/>
  <Override PartName="/ppt/media/image28.png" ContentType="image/png"/>
  <Override PartName="/ppt/media/image5.png" ContentType="image/png"/>
  <Override PartName="/ppt/media/image10.png" ContentType="image/png"/>
  <Override PartName="/ppt/media/image50.wmf" ContentType="image/x-wmf"/>
  <Override PartName="/ppt/media/image38.wmf" ContentType="image/x-wmf"/>
  <Override PartName="/ppt/media/image55.png" ContentType="image/png"/>
  <Override PartName="/ppt/media/image7.png" ContentType="image/png"/>
  <Override PartName="/ppt/media/image40.wmf" ContentType="image/x-wmf"/>
  <Override PartName="/ppt/media/image39.wmf" ContentType="image/x-wmf"/>
  <Override PartName="/ppt/media/image56.png" ContentType="image/png"/>
  <Override PartName="/ppt/media/image45.png" ContentType="image/png"/>
  <Override PartName="/ppt/media/image46.wmf" ContentType="image/x-wmf"/>
  <Override PartName="/ppt/media/image47.wmf" ContentType="image/x-wmf"/>
  <Override PartName="/ppt/media/image48.wmf" ContentType="image/x-wmf"/>
  <Override PartName="/ppt/media/image30.png" ContentType="image/png"/>
  <Override PartName="/ppt/media/image37.wmf" ContentType="image/x-wmf"/>
  <Override PartName="/ppt/media/image54.png" ContentType="image/png"/>
  <Override PartName="/ppt/media/image49.wmf" ContentType="image/x-wmf"/>
  <Override PartName="/ppt/media/image43.png" ContentType="image/png"/>
  <Override PartName="/ppt/media/image44.png" ContentType="image/png"/>
  <Override PartName="/ppt/media/image35.wmf" ContentType="image/x-wmf"/>
  <Override PartName="/ppt/media/image33.wmf" ContentType="image/x-wmf"/>
  <Override PartName="/ppt/media/image51.wmf" ContentType="image/x-wmf"/>
  <Override PartName="/ppt/media/image11.png" ContentType="image/png"/>
  <Override PartName="/ppt/media/image6.wmf" ContentType="image/x-wmf"/>
  <Override PartName="/ppt/media/image36.wmf" ContentType="image/x-wmf"/>
  <Override PartName="/ppt/media/image42.wmf" ContentType="image/x-wmf"/>
  <Override PartName="/ppt/media/image9.png" ContentType="image/png"/>
  <Override PartName="/ppt/media/image13.png" ContentType="image/png"/>
  <Override PartName="/ppt/media/image53.wmf" ContentType="image/x-wmf"/>
  <Override PartName="/ppt/media/image41.wmf" ContentType="image/x-wmf"/>
  <Override PartName="/ppt/media/image8.png" ContentType="image/png"/>
  <Override PartName="/ppt/media/image52.wmf" ContentType="image/x-wmf"/>
  <Override PartName="/ppt/media/image1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E52D6-6C9F-4904-A1DD-F9516E5D57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-shaped poly(acrylic acid) having various numbers of arms (5, 8, and 21) and a strong cationic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electrolyte, viz., poly(N-ethyl-4-vinylpyridinium bromi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9D3D-97D9-41D9-B92D-F31D99AE0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9F76-FE2B-4E35-84FC-10CA88966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40FE-1E57-44F9-A155-F5A48EC68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349D-F38D-4717-89C9-EF74379C8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184C-547E-4628-A45C-DA1613845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038D-61D9-495B-A770-2F4B22213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FA71-3C04-45BB-B05C-72F61C1EF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1324-21E4-462C-865F-92CB777F1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5145-3506-469F-935B-F537E700A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0690-BBB0-4FA2-924A-D3CF29EF3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DC99-8B9F-40C2-A364-F92D45EC7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BF92-F61F-46CF-847E-8B336E010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A1100-19F8-4632-9D7B-3193823E85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5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image" Target="../media/image42.wmf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5.png"/><Relationship Id="rId1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9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image" Target="../media/image48.wm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wmf"/><Relationship Id="rId3" Type="http://schemas.openxmlformats.org/officeDocument/2006/relationships/image" Target="../media/image58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7777080" cy="1522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9280" y="2419200"/>
            <a:ext cx="864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Компьютерное моделирование  комплексов линей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полиэлектролитов с разветвленны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макромолекулами  в раство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50560" y="3573360"/>
            <a:ext cx="426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А.А.Даринский, С.В.Люлин, С.В.Лар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50160" y="4437000"/>
            <a:ext cx="570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Институт Высокомолекулярных Соединений Р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Большой пр.31 С.Петербу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950080"/>
            <a:ext cx="169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Таруса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55640" y="2205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3024360" cy="26524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276720" y="549360"/>
            <a:ext cx="2998800" cy="30686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6288120" y="907920"/>
            <a:ext cx="2855880" cy="28814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0" y="3284640"/>
            <a:ext cx="3816360" cy="27874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3995640" y="3284640"/>
            <a:ext cx="5148360" cy="2995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09548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69280" y="3089160"/>
            <a:ext cx="9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ch=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77280" y="3016080"/>
            <a:ext cx="9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ch=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290360" y="3521160"/>
            <a:ext cx="9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ch=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61280" y="6040440"/>
            <a:ext cx="9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ch=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922000" y="6040440"/>
            <a:ext cx="9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ch=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44000" y="333360"/>
            <a:ext cx="429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Звезда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6X8 +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линейный П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4360" y="620640"/>
            <a:ext cx="3024000" cy="26100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572000" y="692280"/>
            <a:ext cx="3241800" cy="28209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0" y="3141720"/>
            <a:ext cx="5111640" cy="24778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4068720" y="4149720"/>
            <a:ext cx="5075280" cy="2070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178720" y="2944800"/>
            <a:ext cx="9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ch=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66720" y="3305160"/>
            <a:ext cx="9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ch=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69280" y="5753160"/>
            <a:ext cx="9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ch=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354000" y="6040440"/>
            <a:ext cx="9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ch=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917080" y="260280"/>
            <a:ext cx="429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Звезда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9X5 +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линейный П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25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116000" y="765000"/>
          <a:ext cx="6408720" cy="448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765000"/>
                    <a:ext cx="6408720" cy="44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387000" y="5157720"/>
            <a:ext cx="8451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епень перезарядки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(Nads-No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ак функция избыточной длины цеп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(Nch-N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620640"/>
            <a:ext cx="209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Qch&gt; Q macro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79080" y="6137280"/>
            <a:ext cx="415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新細明體"/>
              </a:rPr>
              <a:t>No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- число заряженных групп в макроио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271600" y="1362240"/>
            <a:ext cx="170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Выв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398240" y="2971800"/>
            <a:ext cx="56044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Заметная перезаряд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Один «хвост» при больших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N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Слабая зависимость от тополо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Немонотонная зависимость от длины П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Нет резкого изменения степени перезаряд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410560" y="331920"/>
            <a:ext cx="273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Qch&gt; Q macro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040360" y="692280"/>
            <a:ext cx="4103640" cy="23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Qch&lt; Q macro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Интеполимерные комплексы со звездами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414520" y="1670040"/>
            <a:ext cx="4462560" cy="42069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94640" y="6014880"/>
            <a:ext cx="760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сперимент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: Pergushov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D.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Babi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Plamp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ezin A., Müller A. // </a:t>
            </a: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Langmuir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,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679840" y="1073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Qch&lt; Q macro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труктура комплекс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708280" y="1560600"/>
            <a:ext cx="3303720" cy="25891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6588000" y="3500280"/>
            <a:ext cx="2184480" cy="21844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324000" y="3645000"/>
            <a:ext cx="2184120" cy="21844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4069080" y="587232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6" name=""/>
          <p:cNvCxnSpPr>
            <a:stCxn id="162" idx="1"/>
            <a:endCxn id="164" idx="0"/>
          </p:cNvCxnSpPr>
          <p:nvPr/>
        </p:nvCxnSpPr>
        <p:spPr>
          <a:xfrm flipV="1" rot="10800000">
            <a:off x="1415160" y="2855520"/>
            <a:ext cx="1293120" cy="78984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67" name=""/>
          <p:cNvSpPr/>
          <p:nvPr/>
        </p:nvSpPr>
        <p:spPr>
          <a:xfrm>
            <a:off x="2630520" y="2637000"/>
            <a:ext cx="73080" cy="35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2" idx="3"/>
            <a:endCxn id="163" idx="0"/>
          </p:cNvCxnSpPr>
          <p:nvPr/>
        </p:nvCxnSpPr>
        <p:spPr>
          <a:xfrm>
            <a:off x="6012000" y="2855880"/>
            <a:ext cx="1668960" cy="64512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69" name=""/>
          <p:cNvSpPr/>
          <p:nvPr/>
        </p:nvSpPr>
        <p:spPr>
          <a:xfrm>
            <a:off x="230040" y="5870520"/>
            <a:ext cx="268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 же число слегка поджатых луч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883120" y="5734080"/>
            <a:ext cx="326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асть лучей звезды коллапсирована в ядро, другая -вытяну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6840" y="1599840"/>
            <a:ext cx="353844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067280" y="1599840"/>
            <a:ext cx="4619520" cy="37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дель цепи с жесткими связ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тенциал взаимодействия –тэта условия (П-л Леннарда-Джонс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везда 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0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учам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(20-100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астиц в каждо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пи ПЭ п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3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части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частицы заряже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вные противоио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охастическая динамик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явный р-тель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ограмма разр.П.Г.Халатур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rcRect l="26306" t="4468" r="26306" b="4468"/>
          <a:stretch/>
        </p:blipFill>
        <p:spPr>
          <a:xfrm>
            <a:off x="468360" y="1628640"/>
            <a:ext cx="3456000" cy="345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5" name=""/>
          <p:cNvGraphicFramePr/>
          <p:nvPr/>
        </p:nvGraphicFramePr>
        <p:xfrm>
          <a:off x="1692360" y="5373720"/>
          <a:ext cx="5400720" cy="103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92360" y="5373720"/>
                    <a:ext cx="5400720" cy="103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"/>
          <p:cNvGrpSpPr/>
          <p:nvPr/>
        </p:nvGrpSpPr>
        <p:grpSpPr>
          <a:xfrm>
            <a:off x="1258920" y="2276640"/>
            <a:ext cx="1872720" cy="3094920"/>
            <a:chOff x="1258920" y="2276640"/>
            <a:chExt cx="1872720" cy="3094920"/>
          </a:xfrm>
        </p:grpSpPr>
        <p:pic>
          <p:nvPicPr>
            <p:cNvPr id="178" name="" descr=""/>
            <p:cNvPicPr/>
            <p:nvPr/>
          </p:nvPicPr>
          <p:blipFill>
            <a:blip r:embed="rId1"/>
            <a:srcRect l="29246" t="18335" r="28984" b="26121"/>
            <a:stretch/>
          </p:blipFill>
          <p:spPr>
            <a:xfrm>
              <a:off x="1258920" y="2739600"/>
              <a:ext cx="1871280" cy="26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1258920" y="2276640"/>
              <a:ext cx="1872720" cy="64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Arial"/>
                </a:rPr>
                <a:t>Нейтральная звез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4859280" y="2349360"/>
            <a:ext cx="3901320" cy="3672720"/>
            <a:chOff x="4859280" y="2349360"/>
            <a:chExt cx="3901320" cy="3672720"/>
          </a:xfrm>
        </p:grpSpPr>
        <p:pic>
          <p:nvPicPr>
            <p:cNvPr id="181" name="" descr=""/>
            <p:cNvPicPr/>
            <p:nvPr/>
          </p:nvPicPr>
          <p:blipFill>
            <a:blip r:embed="rId2"/>
            <a:srcRect l="18822" t="7039" r="29069" b="22781"/>
            <a:stretch/>
          </p:blipFill>
          <p:spPr>
            <a:xfrm>
              <a:off x="4859280" y="2349360"/>
              <a:ext cx="3901320" cy="367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5016960" y="2499840"/>
              <a:ext cx="68400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r>
                <a:rPr b="0" i="1" lang="ru-RU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=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132000" y="333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Звезда без П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75280" y="981000"/>
            <a:ext cx="349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исло луче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438520" y="1773360"/>
            <a:ext cx="22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ряженная звез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 Black"/>
              </a:rPr>
              <a:t>Комплексы при разных степенях нейтрализации</a:t>
            </a:r>
            <a:r>
              <a:rPr b="1" lang="en-US" sz="2800" spc="-1" strike="noStrike">
                <a:solidFill>
                  <a:srgbClr val="ff3300"/>
                </a:solidFill>
                <a:latin typeface="Arial Black"/>
              </a:rPr>
              <a:t> </a:t>
            </a:r>
            <a:r>
              <a:rPr b="1" i="1" lang="en-US" sz="2800" spc="-1" strike="noStrike">
                <a:solidFill>
                  <a:srgbClr val="ff3300"/>
                </a:solidFill>
                <a:latin typeface="Arial Black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18822" t="7039" r="29069" b="22781"/>
          <a:stretch/>
        </p:blipFill>
        <p:spPr>
          <a:xfrm>
            <a:off x="468360" y="1628640"/>
            <a:ext cx="2462040" cy="23558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rcRect l="22988" t="5461" r="26819" b="21415"/>
          <a:stretch/>
        </p:blipFill>
        <p:spPr>
          <a:xfrm>
            <a:off x="1979640" y="4076640"/>
            <a:ext cx="2363760" cy="24573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rcRect l="31350" t="20306" r="26971" b="12499"/>
          <a:stretch/>
        </p:blipFill>
        <p:spPr>
          <a:xfrm>
            <a:off x="3851280" y="1628640"/>
            <a:ext cx="1954080" cy="22510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rcRect l="35516" t="17192" r="18548" b="27644"/>
          <a:stretch/>
        </p:blipFill>
        <p:spPr>
          <a:xfrm>
            <a:off x="5148360" y="4437000"/>
            <a:ext cx="2170080" cy="18604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5"/>
          <a:srcRect l="22988" t="19581" r="33083" b="22909"/>
          <a:stretch/>
        </p:blipFill>
        <p:spPr>
          <a:xfrm>
            <a:off x="6588000" y="1700280"/>
            <a:ext cx="2090880" cy="1957320"/>
          </a:xfrm>
          <a:prstGeom prst="rect">
            <a:avLst/>
          </a:prstGeom>
          <a:ln w="0">
            <a:noFill/>
          </a:ln>
        </p:spPr>
      </p:pic>
      <p:cxnSp>
        <p:nvCxnSpPr>
          <p:cNvPr id="192" name=""/>
          <p:cNvCxnSpPr>
            <a:stCxn id="187" idx="3"/>
            <a:endCxn id="188" idx="0"/>
          </p:cNvCxnSpPr>
          <p:nvPr/>
        </p:nvCxnSpPr>
        <p:spPr>
          <a:xfrm>
            <a:off x="2930400" y="2806560"/>
            <a:ext cx="232560" cy="127080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3" name=""/>
          <p:cNvCxnSpPr>
            <a:stCxn id="188" idx="3"/>
            <a:endCxn id="189" idx="2"/>
          </p:cNvCxnSpPr>
          <p:nvPr/>
        </p:nvCxnSpPr>
        <p:spPr>
          <a:xfrm flipV="1">
            <a:off x="4343040" y="3879360"/>
            <a:ext cx="486360" cy="142632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4" name=""/>
          <p:cNvCxnSpPr>
            <a:stCxn id="189" idx="3"/>
            <a:endCxn id="190" idx="0"/>
          </p:cNvCxnSpPr>
          <p:nvPr/>
        </p:nvCxnSpPr>
        <p:spPr>
          <a:xfrm>
            <a:off x="5805000" y="2754360"/>
            <a:ext cx="429480" cy="168336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5" name=""/>
          <p:cNvCxnSpPr>
            <a:stCxn id="190" idx="3"/>
            <a:endCxn id="191" idx="2"/>
          </p:cNvCxnSpPr>
          <p:nvPr/>
        </p:nvCxnSpPr>
        <p:spPr>
          <a:xfrm flipV="1">
            <a:off x="7318080" y="3656880"/>
            <a:ext cx="316440" cy="171036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6" name=""/>
          <p:cNvSpPr/>
          <p:nvPr/>
        </p:nvSpPr>
        <p:spPr>
          <a:xfrm>
            <a:off x="540360" y="1700280"/>
            <a:ext cx="684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420360" y="4149720"/>
            <a:ext cx="8748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852000" y="1619280"/>
            <a:ext cx="8748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444360" y="4508640"/>
            <a:ext cx="8748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800120" y="3274920"/>
            <a:ext cx="8748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"/>
          <p:cNvGraphicFramePr/>
          <p:nvPr/>
        </p:nvGraphicFramePr>
        <p:xfrm>
          <a:off x="-468360" y="836640"/>
          <a:ext cx="6300720" cy="439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68360" y="836640"/>
                    <a:ext cx="6300720" cy="439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177120" y="5084640"/>
            <a:ext cx="563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пределение лучей по  расстоянию межд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цам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различной степени нейтрализаци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496200" y="1576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731200" y="3429000"/>
            <a:ext cx="2905560" cy="1465560"/>
          </a:xfrm>
          <a:prstGeom prst="rect">
            <a:avLst/>
          </a:prstGeom>
          <a:solidFill>
            <a:srgbClr val="0099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асть лучей вытянут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асть подж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эффек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испропроционирова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оля поджатых лучей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~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081240" y="144360"/>
            <a:ext cx="26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Qch&lt; Q macro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3634920" y="3645000"/>
            <a:ext cx="20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1907640" y="3860280"/>
            <a:ext cx="381636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6300720" y="981000"/>
            <a:ext cx="187344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-261720" y="457200"/>
            <a:ext cx="963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ahoma"/>
              </a:rPr>
              <a:t>Почему интересны полимеры с ионизированными группам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-556560" y="1454040"/>
            <a:ext cx="10638720" cy="54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ahoma"/>
              </a:rPr>
              <a:t>Технология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(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защита среды  -вода наиболее распространенный р-тель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       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агрохимия, нефтедобыча,косметика, продукты питания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,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ahoma"/>
              </a:rPr>
              <a:t>Биомедицинские приложения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(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направленный транспорт лекар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и генов, диагностика, инженерия искусственных органов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)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3300"/>
                </a:solidFill>
                <a:latin typeface="Tahoma"/>
              </a:rPr>
              <a:t>Интересная физика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- 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взаимосвязь полимерной </a:t>
            </a:r>
            <a:r>
              <a:rPr b="0" lang="ru-RU" sz="2000" spc="-1" strike="noStrike">
                <a:solidFill>
                  <a:srgbClr val="ff3300"/>
                </a:solidFill>
                <a:latin typeface="Tahoma"/>
              </a:rPr>
              <a:t>связности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с </a:t>
            </a:r>
            <a:r>
              <a:rPr b="0" lang="ru-RU" sz="2000" spc="-1" strike="noStrike">
                <a:solidFill>
                  <a:srgbClr val="ff3300"/>
                </a:solidFill>
                <a:latin typeface="Tahoma"/>
              </a:rPr>
              <a:t>дальнодействующи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Tahoma"/>
              </a:rPr>
              <a:t>         </a:t>
            </a:r>
            <a:r>
              <a:rPr b="0" lang="ru-RU" sz="2000" spc="-1" strike="noStrike">
                <a:solidFill>
                  <a:srgbClr val="ff3300"/>
                </a:solidFill>
                <a:latin typeface="Tahoma"/>
              </a:rPr>
              <a:t>Кулоновскими взаимодействиями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- 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большое число независимо вариабельных факторов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        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(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влияние соли,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pH, T,…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       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(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электростатика,водородные связи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, 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гидрофобные взаимодействия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,…)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         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самоорганизация в </a:t>
            </a:r>
            <a:r>
              <a:rPr b="0" lang="ru-RU" sz="2000" spc="-1" strike="noStrike">
                <a:solidFill>
                  <a:srgbClr val="ff3300"/>
                </a:solidFill>
                <a:latin typeface="Tahoma"/>
              </a:rPr>
              <a:t>иерархические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структуры,</a:t>
            </a:r>
            <a:r>
              <a:rPr b="0" lang="ru-RU" sz="2000" spc="-1" strike="noStrike">
                <a:solidFill>
                  <a:srgbClr val="ff3300"/>
                </a:solidFill>
                <a:latin typeface="Tahoma"/>
              </a:rPr>
              <a:t>чувствительные 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          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слабым внешним воздействиям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507520" cy="8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 Black"/>
              </a:rPr>
              <a:t>Комплексы ПЭ со звездами с разными длинами лучей</a:t>
            </a: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 </a:t>
            </a:r>
            <a:r>
              <a:rPr b="1" i="1" lang="en-US" sz="2400" spc="-1" strike="noStrike">
                <a:solidFill>
                  <a:srgbClr val="ff3300"/>
                </a:solidFill>
                <a:latin typeface="Arial Black"/>
              </a:rPr>
              <a:t>N</a:t>
            </a:r>
            <a:r>
              <a:rPr b="1" i="1" lang="en-US" sz="2400" spc="-1" strike="noStrike" baseline="-25000">
                <a:solidFill>
                  <a:srgbClr val="ff3300"/>
                </a:solidFill>
                <a:latin typeface="Arial Black"/>
              </a:rPr>
              <a:t>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15758" t="3797" r="8024" b="3421"/>
          <a:stretch/>
        </p:blipFill>
        <p:spPr>
          <a:xfrm>
            <a:off x="5148360" y="3357720"/>
            <a:ext cx="3671640" cy="31017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rcRect l="20865" t="13340" r="24911" b="4334"/>
          <a:stretch/>
        </p:blipFill>
        <p:spPr>
          <a:xfrm>
            <a:off x="2627280" y="1268280"/>
            <a:ext cx="2432160" cy="2563920"/>
          </a:xfrm>
          <a:prstGeom prst="rect">
            <a:avLst/>
          </a:prstGeom>
          <a:ln w="0">
            <a:noFill/>
          </a:ln>
        </p:spPr>
      </p:pic>
      <p:cxnSp>
        <p:nvCxnSpPr>
          <p:cNvPr id="213" name=""/>
          <p:cNvCxnSpPr>
            <a:stCxn id="214" idx="3"/>
            <a:endCxn id="215" idx="0"/>
          </p:cNvCxnSpPr>
          <p:nvPr/>
        </p:nvCxnSpPr>
        <p:spPr>
          <a:xfrm>
            <a:off x="2058840" y="2127240"/>
            <a:ext cx="178200" cy="18072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"/>
          <p:cNvCxnSpPr>
            <a:stCxn id="215" idx="3"/>
            <a:endCxn id="212" idx="2"/>
          </p:cNvCxnSpPr>
          <p:nvPr/>
        </p:nvCxnSpPr>
        <p:spPr>
          <a:xfrm flipV="1">
            <a:off x="3212640" y="3831480"/>
            <a:ext cx="631080" cy="12279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"/>
          <p:cNvCxnSpPr>
            <a:stCxn id="212" idx="3"/>
            <a:endCxn id="211" idx="0"/>
          </p:cNvCxnSpPr>
          <p:nvPr/>
        </p:nvCxnSpPr>
        <p:spPr>
          <a:xfrm>
            <a:off x="5059080" y="2550600"/>
            <a:ext cx="1926360" cy="8074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8" name=""/>
          <p:cNvGrpSpPr/>
          <p:nvPr/>
        </p:nvGrpSpPr>
        <p:grpSpPr>
          <a:xfrm>
            <a:off x="468360" y="1268280"/>
            <a:ext cx="1590480" cy="2061360"/>
            <a:chOff x="468360" y="1268280"/>
            <a:chExt cx="1590480" cy="2061360"/>
          </a:xfrm>
        </p:grpSpPr>
        <p:pic>
          <p:nvPicPr>
            <p:cNvPr id="219" name="" descr=""/>
            <p:cNvPicPr/>
            <p:nvPr/>
          </p:nvPicPr>
          <p:blipFill>
            <a:blip r:embed="rId3"/>
            <a:srcRect l="25986" t="32981" r="44884" b="22026"/>
            <a:stretch/>
          </p:blipFill>
          <p:spPr>
            <a:xfrm>
              <a:off x="468360" y="1268280"/>
              <a:ext cx="1590480" cy="171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468360" y="2923920"/>
              <a:ext cx="1589040" cy="405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i="1" lang="en-US" sz="1800" spc="-1" strike="noStrike" baseline="-25000">
                  <a:solidFill>
                    <a:srgbClr val="ffffff"/>
                  </a:solidFill>
                  <a:latin typeface="Arial"/>
                </a:rPr>
                <a:t>arm</a:t>
              </a:r>
              <a:r>
                <a:rPr b="0" i="1" lang="ru-RU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=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1258920" y="3933720"/>
            <a:ext cx="1954080" cy="2566080"/>
            <a:chOff x="1258920" y="3933720"/>
            <a:chExt cx="1954080" cy="2566080"/>
          </a:xfrm>
        </p:grpSpPr>
        <p:pic>
          <p:nvPicPr>
            <p:cNvPr id="222" name="" descr=""/>
            <p:cNvPicPr/>
            <p:nvPr/>
          </p:nvPicPr>
          <p:blipFill>
            <a:blip r:embed="rId4"/>
            <a:srcRect l="31350" t="20306" r="26971" b="12499"/>
            <a:stretch/>
          </p:blipFill>
          <p:spPr>
            <a:xfrm>
              <a:off x="1258920" y="3933720"/>
              <a:ext cx="1954080" cy="225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1258920" y="6094080"/>
              <a:ext cx="1952640" cy="405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i="1" lang="en-US" sz="1800" spc="-1" strike="noStrike" baseline="-25000">
                  <a:solidFill>
                    <a:srgbClr val="ffffff"/>
                  </a:solidFill>
                  <a:latin typeface="Arial"/>
                </a:rPr>
                <a:t>arm</a:t>
              </a:r>
              <a:r>
                <a:rPr b="0" i="1" lang="ru-RU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=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2646000" y="3421080"/>
            <a:ext cx="1087920" cy="405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Arial"/>
              </a:rPr>
              <a:t>arm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543800" y="6021360"/>
            <a:ext cx="1214280" cy="405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Arial"/>
              </a:rPr>
              <a:t>arm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567480" y="1576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852360" y="4797360"/>
            <a:ext cx="7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=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30520" y="1413000"/>
            <a:ext cx="2680200" cy="91692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Доля вытянутых луч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звезды в комплек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не зависит от их дл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9" name=""/>
          <p:cNvGraphicFramePr/>
          <p:nvPr/>
        </p:nvGraphicFramePr>
        <p:xfrm>
          <a:off x="2411280" y="2708280"/>
          <a:ext cx="4791240" cy="30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2708280"/>
                    <a:ext cx="4791240" cy="30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1042920" y="1916280"/>
          <a:ext cx="1457280" cy="107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42920" y="1916280"/>
                    <a:ext cx="1457280" cy="107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6732720" y="3500280"/>
          <a:ext cx="1228680" cy="1686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32720" y="3500280"/>
                    <a:ext cx="1228680" cy="16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1187280" y="3933720"/>
          <a:ext cx="1229040" cy="1685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87280" y="3933720"/>
                    <a:ext cx="1229040" cy="16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3059280" y="5373720"/>
          <a:ext cx="1819080" cy="1047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59280" y="5373720"/>
                    <a:ext cx="181908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3780000" y="1628640"/>
          <a:ext cx="1819080" cy="1047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780000" y="1628640"/>
                    <a:ext cx="1819080" cy="10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"/>
          <p:cNvSpPr/>
          <p:nvPr/>
        </p:nvSpPr>
        <p:spPr>
          <a:xfrm>
            <a:off x="330480" y="1052640"/>
            <a:ext cx="84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Гребнеобразный полимер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+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линейная ПЭ цеп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6920" y="208080"/>
            <a:ext cx="257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Qch&lt; Q macro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469800" y="65160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rcRect l="10546" t="0" r="10662" b="0"/>
          <a:stretch/>
        </p:blipFill>
        <p:spPr>
          <a:xfrm>
            <a:off x="900000" y="1700280"/>
            <a:ext cx="5759640" cy="38178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-2244600" y="610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827640" y="5392800"/>
            <a:ext cx="6186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ая цепь-100 части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ковых цепей п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30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номер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астиц) в каждо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пи привиты к каждому второму мономе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195200" y="189000"/>
            <a:ext cx="732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Нейтральный гребнеобразный полим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rcRect l="10525" t="0" r="10614" b="0"/>
          <a:stretch/>
        </p:blipFill>
        <p:spPr>
          <a:xfrm>
            <a:off x="1692360" y="2133720"/>
            <a:ext cx="5840280" cy="385128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1903680" y="307800"/>
            <a:ext cx="47984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Заряженный гребнеобразный полим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Все боковые цепи заряже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032560" y="1432080"/>
            <a:ext cx="276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= 0 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з линейного П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rcRect l="11026" t="0" r="10852" b="0"/>
          <a:stretch/>
        </p:blipFill>
        <p:spPr>
          <a:xfrm>
            <a:off x="1835280" y="1628640"/>
            <a:ext cx="5937120" cy="39672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2700360" y="692280"/>
            <a:ext cx="33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z =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0.2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7093080" y="765000"/>
          <a:ext cx="1439640" cy="586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93080" y="765000"/>
                    <a:ext cx="1439640" cy="5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"/>
          <p:cNvSpPr/>
          <p:nvPr/>
        </p:nvSpPr>
        <p:spPr>
          <a:xfrm>
            <a:off x="2466720" y="5897520"/>
            <a:ext cx="480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ормирование структуры типа «ожерель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rcRect l="10264" t="0" r="10131" b="0"/>
          <a:stretch/>
        </p:blipFill>
        <p:spPr>
          <a:xfrm>
            <a:off x="1979640" y="1916280"/>
            <a:ext cx="5950080" cy="388908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4048200" y="927000"/>
            <a:ext cx="116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0.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031840" y="6040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176560" y="6113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rcRect l="10700" t="12662" r="10776" b="12657"/>
          <a:stretch/>
        </p:blipFill>
        <p:spPr>
          <a:xfrm>
            <a:off x="2124000" y="2133720"/>
            <a:ext cx="5943600" cy="403056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3327840" y="784080"/>
            <a:ext cx="13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0.7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622440" y="4941360"/>
            <a:ext cx="6313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плекс при полной нейтрализации заряда зарядом П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глобул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1692360" y="907920"/>
            <a:ext cx="5479920" cy="38052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3611160" y="21744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z=1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191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0" y="1341360"/>
          <a:ext cx="6048360" cy="427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41360"/>
                    <a:ext cx="6048360" cy="42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"/>
          <p:cNvSpPr/>
          <p:nvPr/>
        </p:nvSpPr>
        <p:spPr>
          <a:xfrm>
            <a:off x="325080" y="5661000"/>
            <a:ext cx="595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пределение боковых цепей по расстоянию межд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цами в комплексах с разными 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3"/>
          <a:srcRect l="11026" t="0" r="10852" b="0"/>
          <a:stretch/>
        </p:blipFill>
        <p:spPr>
          <a:xfrm>
            <a:off x="6443640" y="1989000"/>
            <a:ext cx="2306520" cy="154152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611280" y="404640"/>
            <a:ext cx="757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Эффект диспропорционирования в комплекса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ПЭ с гребнеобразным полиме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1253160" y="1100160"/>
            <a:ext cx="6104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                  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Комплекс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гребнеобразный полимер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+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линейная ПЭ цеп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537200" y="2131920"/>
            <a:ext cx="7381080" cy="23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вод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Формируется структура типа «ожерелье» при малых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Эффект диспропорционир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384200" y="423720"/>
            <a:ext cx="261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Qch&lt; Qmacro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rcRect l="11026" t="0" r="10852" b="0"/>
          <a:stretch/>
        </p:blipFill>
        <p:spPr>
          <a:xfrm>
            <a:off x="5508720" y="4292640"/>
            <a:ext cx="28083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548360" y="40464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Разветвленные заряженные макромолекул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звезды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дендримеры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гребнеобразные полим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05080" y="3213000"/>
            <a:ext cx="56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ая объмная плотность заря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можность образования комплексов с други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ряженными молекулам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72720" y="5157720"/>
            <a:ext cx="391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Приложе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Связующ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Контейнеры для лекарств или ДН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Флокулля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156360" y="1197000"/>
            <a:ext cx="2448000" cy="1547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851280" y="1268280"/>
            <a:ext cx="1617480" cy="1579680"/>
          </a:xfrm>
          <a:prstGeom prst="rect">
            <a:avLst/>
          </a:prstGeom>
          <a:ln w="0">
            <a:noFill/>
          </a:ln>
        </p:spPr>
      </p:pic>
      <p:grpSp>
        <p:nvGrpSpPr>
          <p:cNvPr id="61" name=""/>
          <p:cNvGrpSpPr/>
          <p:nvPr/>
        </p:nvGrpSpPr>
        <p:grpSpPr>
          <a:xfrm>
            <a:off x="1547640" y="1268280"/>
            <a:ext cx="1306440" cy="1586160"/>
            <a:chOff x="1547640" y="1268280"/>
            <a:chExt cx="1306440" cy="1586160"/>
          </a:xfrm>
        </p:grpSpPr>
        <p:pic>
          <p:nvPicPr>
            <p:cNvPr id="62" name="" descr=""/>
            <p:cNvPicPr/>
            <p:nvPr/>
          </p:nvPicPr>
          <p:blipFill>
            <a:blip r:embed="rId3"/>
            <a:srcRect l="18822" t="7039" r="29069" b="22781"/>
            <a:stretch/>
          </p:blipFill>
          <p:spPr>
            <a:xfrm>
              <a:off x="1558800" y="1268280"/>
              <a:ext cx="1295280" cy="15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1547640" y="1333080"/>
              <a:ext cx="184320" cy="36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695240" y="2343240"/>
            <a:ext cx="526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Спасибо за внимание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"/>
          <p:cNvGrpSpPr/>
          <p:nvPr/>
        </p:nvGrpSpPr>
        <p:grpSpPr>
          <a:xfrm>
            <a:off x="1476360" y="2421000"/>
            <a:ext cx="5486400" cy="3200400"/>
            <a:chOff x="1476360" y="2421000"/>
            <a:chExt cx="5486400" cy="3200400"/>
          </a:xfrm>
        </p:grpSpPr>
        <p:pic>
          <p:nvPicPr>
            <p:cNvPr id="277" name="" descr=""/>
            <p:cNvPicPr/>
            <p:nvPr/>
          </p:nvPicPr>
          <p:blipFill>
            <a:blip r:embed="rId1"/>
            <a:srcRect l="21293" t="17908" r="23975" b="28329"/>
            <a:stretch/>
          </p:blipFill>
          <p:spPr>
            <a:xfrm>
              <a:off x="1476360" y="2494440"/>
              <a:ext cx="1796400" cy="125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" descr=""/>
            <p:cNvPicPr/>
            <p:nvPr/>
          </p:nvPicPr>
          <p:blipFill>
            <a:blip r:embed="rId2"/>
            <a:srcRect l="13987" t="24742" r="6324" b="17234"/>
            <a:stretch/>
          </p:blipFill>
          <p:spPr>
            <a:xfrm>
              <a:off x="4195440" y="2421000"/>
              <a:ext cx="2670840" cy="138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" descr=""/>
            <p:cNvPicPr/>
            <p:nvPr/>
          </p:nvPicPr>
          <p:blipFill>
            <a:blip r:embed="rId3"/>
            <a:srcRect l="9730" t="24401" r="9396" b="41123"/>
            <a:stretch/>
          </p:blipFill>
          <p:spPr>
            <a:xfrm>
              <a:off x="1476360" y="3953880"/>
              <a:ext cx="5486400" cy="166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5248080" y="3564000"/>
              <a:ext cx="2286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276280" y="3678120"/>
              <a:ext cx="22824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219560" y="5392800"/>
              <a:ext cx="22824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3421800" y="5445000"/>
            <a:ext cx="157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ch=110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79960" y="260280"/>
            <a:ext cx="747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 Black"/>
              </a:rPr>
              <a:t>Комплекс одной ПЭ цепи с двумя дендримерами</a:t>
            </a:r>
            <a:r>
              <a:rPr b="0" lang="en-US" sz="2000" spc="-1" strike="noStrike">
                <a:solidFill>
                  <a:srgbClr val="ff3300"/>
                </a:solidFill>
                <a:latin typeface="Arial Black"/>
              </a:rPr>
              <a:t> (g=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97080" y="378936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879960" y="3645000"/>
            <a:ext cx="123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ch=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898000" y="1000080"/>
            <a:ext cx="350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ряд одного денриме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2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0" y="19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971640" y="1197000"/>
          <a:ext cx="5327640" cy="377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197000"/>
                    <a:ext cx="5327640" cy="37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" name=""/>
          <p:cNvSpPr/>
          <p:nvPr/>
        </p:nvSpPr>
        <p:spPr>
          <a:xfrm>
            <a:off x="250920" y="4941720"/>
            <a:ext cx="748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сказания теории для зависимости числа адсорбированных мономеров цепи (на один макроион) от ее длины и числа мономеров в «мосте» или «хвосте» для комплексов гибкой цепи ПЭ с двумя или одним макроион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3"/>
          <a:srcRect l="0" t="33335" r="0" b="33335"/>
          <a:stretch/>
        </p:blipFill>
        <p:spPr>
          <a:xfrm>
            <a:off x="539640" y="189000"/>
            <a:ext cx="3745080" cy="9396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293" name="" descr=""/>
          <p:cNvPicPr/>
          <p:nvPr/>
        </p:nvPicPr>
        <p:blipFill>
          <a:blip r:embed="rId4"/>
          <a:stretch/>
        </p:blipFill>
        <p:spPr>
          <a:xfrm>
            <a:off x="7020000" y="2349360"/>
            <a:ext cx="1297080" cy="120996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2987640" y="112536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203640" y="1125360"/>
            <a:ext cx="647640" cy="27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 flipV="1">
            <a:off x="4211640" y="2060640"/>
            <a:ext cx="288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4284720" y="2924280"/>
            <a:ext cx="273528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643280" y="404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692240" y="326880"/>
            <a:ext cx="39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Одна ПЭ цепь и два макрои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128200" y="857160"/>
            <a:ext cx="22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Qch&gt;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Q macro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19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1619280" y="0"/>
          <a:ext cx="5473800" cy="467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0"/>
                    <a:ext cx="5473800" cy="46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"/>
          <p:cNvSpPr/>
          <p:nvPr/>
        </p:nvSpPr>
        <p:spPr>
          <a:xfrm>
            <a:off x="543960" y="4581360"/>
            <a:ext cx="8646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авнение числа адсорбированных мономеров цеп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ad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на один макроион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числа мономеров в «хвосте»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tai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«мост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редсказаниями те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сферических макроио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adsorbed chain monomer units in complexes formed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dendrimer with LPE as well as theoretical predictions for such complex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also show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293080" y="260280"/>
            <a:ext cx="332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на цепь и два дендрим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моделирова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38240" y="620640"/>
            <a:ext cx="825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Основные эффекты в комплексах разветвлен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макроионов с линейными полиэлектроли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-113400" y="2565360"/>
            <a:ext cx="1000764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33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  <a:ea typeface="바탕"/>
              </a:rPr>
              <a:t>1.Q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  <a:ea typeface="바탕"/>
              </a:rPr>
              <a:t>&gt; Q macroion </a:t>
            </a:r>
            <a:r>
              <a:rPr b="1" lang="ru-RU" sz="2400" spc="-1" strike="noStrike">
                <a:solidFill>
                  <a:srgbClr val="ff3300"/>
                </a:solidFill>
                <a:latin typeface="Arial Black"/>
              </a:rPr>
              <a:t>перезаряд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2.Q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с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&lt; Q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macro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диспропорционирование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  <a:ea typeface="바탕"/>
              </a:rPr>
              <a:t> </a:t>
            </a:r>
            <a:r>
              <a:rPr b="0" lang="ru-RU" sz="2400" spc="-1" strike="noStrike">
                <a:solidFill>
                  <a:srgbClr val="ff3300"/>
                </a:solidFill>
                <a:latin typeface="Arial Black"/>
              </a:rPr>
              <a:t>                         </a:t>
            </a:r>
            <a:r>
              <a:rPr b="1" lang="ru-RU" sz="2400" spc="-1" strike="noStrike">
                <a:solidFill>
                  <a:srgbClr val="ff3300"/>
                </a:solidFill>
                <a:latin typeface="Arial Black"/>
              </a:rPr>
              <a:t>микроструктурир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372360" y="1773360"/>
            <a:ext cx="2284200" cy="2305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rcRect l="27117" t="6992" r="22748" b="11220"/>
          <a:stretch/>
        </p:blipFill>
        <p:spPr>
          <a:xfrm>
            <a:off x="7020000" y="4005360"/>
            <a:ext cx="165420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47840" y="2584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43280" y="907920"/>
            <a:ext cx="636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Заряд цепи ПЭ больше, чем полный заряд макрои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3879720"/>
            <a:ext cx="839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 Black"/>
              </a:rPr>
              <a:t>Перезарядка- </a:t>
            </a:r>
            <a:r>
              <a:rPr b="0" lang="ru-RU" sz="2400" spc="-1" strike="noStrike">
                <a:solidFill>
                  <a:srgbClr val="0000ff"/>
                </a:solidFill>
                <a:latin typeface="Arial Black"/>
              </a:rPr>
              <a:t>заряд адсорбированной цепи ПЭ больше, чем  необходимо для нейтрализации заряда макрои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39480" y="2583000"/>
            <a:ext cx="273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Qch&gt; Q macro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 flipV="1">
            <a:off x="539640" y="2852280"/>
            <a:ext cx="0" cy="2592360"/>
          </a:xfrm>
          <a:prstGeom prst="line">
            <a:avLst/>
          </a:prstGeom>
          <a:ln w="936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1280" y="5445000"/>
            <a:ext cx="3600360" cy="0"/>
          </a:xfrm>
          <a:prstGeom prst="line">
            <a:avLst/>
          </a:prstGeom>
          <a:ln w="936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755640" y="3068280"/>
            <a:ext cx="1728720" cy="2158920"/>
          </a:xfrm>
          <a:prstGeom prst="line">
            <a:avLst/>
          </a:prstGeom>
          <a:ln w="381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3139920"/>
            <a:ext cx="0" cy="576360"/>
          </a:xfrm>
          <a:prstGeom prst="line">
            <a:avLst/>
          </a:prstGeom>
          <a:ln w="381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56000" y="3716280"/>
            <a:ext cx="1511280" cy="0"/>
          </a:xfrm>
          <a:prstGeom prst="line">
            <a:avLst/>
          </a:prstGeom>
          <a:ln w="381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5292720" y="2133720"/>
                <a:ext cx="34596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2484360" y="3716280"/>
            <a:ext cx="0" cy="1800360"/>
          </a:xfrm>
          <a:prstGeom prst="line">
            <a:avLst/>
          </a:prstGeom>
          <a:ln w="9360">
            <a:solidFill>
              <a:srgbClr val="66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9640" y="3068640"/>
            <a:ext cx="1944720" cy="0"/>
          </a:xfrm>
          <a:prstGeom prst="line">
            <a:avLst/>
          </a:prstGeom>
          <a:ln w="9360">
            <a:solidFill>
              <a:srgbClr val="66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2124000" y="2276640"/>
                <a:ext cx="219564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f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e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h</m:t>
                        </m:r>
                      </m:sub>
                      <m: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ds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−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4140360" y="5451480"/>
                <a:ext cx="50292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2195640" y="5589720"/>
                <a:ext cx="50328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h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 flipH="1">
            <a:off x="539280" y="371628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250920" y="1870200"/>
                <a:ext cx="158436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h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250920" y="5516640"/>
                <a:ext cx="10080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 flipH="1">
            <a:off x="539640" y="5227560"/>
            <a:ext cx="216000" cy="289080"/>
          </a:xfrm>
          <a:prstGeom prst="line">
            <a:avLst/>
          </a:prstGeom>
          <a:ln w="381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179280" y="5302080"/>
                <a:ext cx="2574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0" y="2852640"/>
                <a:ext cx="48888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f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>
            <a:off x="324000" y="0"/>
            <a:ext cx="88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Комплекс заряженной полимерной цепи с противоположно заряженной сферой. Перезаряд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7200" y="1125360"/>
            <a:ext cx="3531960" cy="642600"/>
          </a:xfrm>
          <a:prstGeom prst="rect">
            <a:avLst/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Цепь образует упорядоченну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структуру на сфе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282760" y="2889360"/>
                <a:ext cx="11448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6300720" y="3284640"/>
            <a:ext cx="287280" cy="431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88880" y="419256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6600cc"/>
                </a:solidFill>
                <a:latin typeface="Arial"/>
              </a:rPr>
              <a:t>Phase trans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2626920" y="3500280"/>
            <a:ext cx="647640" cy="720720"/>
          </a:xfrm>
          <a:prstGeom prst="line">
            <a:avLst/>
          </a:prstGeom>
          <a:ln w="936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7380360" y="1806480"/>
                <a:ext cx="8636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7380360" y="2467080"/>
                <a:ext cx="107928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f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356000" y="981000"/>
            <a:ext cx="2425680" cy="22622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580000" y="4005360"/>
            <a:ext cx="2374920" cy="21081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341080" y="6165720"/>
            <a:ext cx="58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cc"/>
                </a:solidFill>
                <a:latin typeface="Arial"/>
              </a:rPr>
              <a:t>Теория-</a:t>
            </a:r>
            <a:r>
              <a:rPr b="0" lang="en-US" sz="1800" spc="-1" strike="noStrike">
                <a:solidFill>
                  <a:srgbClr val="3366cc"/>
                </a:solidFill>
                <a:latin typeface="Arial"/>
              </a:rPr>
              <a:t>Nguyen, T. T.; Shklovskii, B. I. </a:t>
            </a:r>
            <a:r>
              <a:rPr b="0" i="1" lang="en-US" sz="1800" spc="-1" strike="noStrike">
                <a:solidFill>
                  <a:srgbClr val="3366cc"/>
                </a:solidFill>
                <a:latin typeface="Arial"/>
              </a:rPr>
              <a:t>Physica A </a:t>
            </a:r>
            <a:r>
              <a:rPr b="1" lang="en-US" sz="1800" spc="-1" strike="noStrike">
                <a:solidFill>
                  <a:srgbClr val="3366cc"/>
                </a:solidFill>
                <a:latin typeface="Arial"/>
              </a:rPr>
              <a:t>2001</a:t>
            </a:r>
            <a:r>
              <a:rPr b="0" lang="en-US" sz="1800" spc="-1" strike="noStrike">
                <a:solidFill>
                  <a:srgbClr val="3366cc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463840" y="1360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39640" y="1095480"/>
            <a:ext cx="8353440" cy="50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                        </a:t>
            </a: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«Крупно-зернистая» мод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мономеры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Lennard –Jones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частицы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(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отталкивающий потенциал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связи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 -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жест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межчастичные взаимодейств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объемные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электростат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неявный растворитель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: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язкая среда и источник случайных си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Me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тод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тохастическая динам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(Решение уравнений Ланжевена для всех частиц . Жесткие связи-через множители Лагранж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чики программы:Н.К.Балабаев, И.М.Неелов, А.В.Люл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971640" y="692280"/>
            <a:ext cx="5114880" cy="4177800"/>
            <a:chOff x="971640" y="692280"/>
            <a:chExt cx="5114880" cy="417780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971640" y="978120"/>
              <a:ext cx="1285920" cy="122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2"/>
            <a:stretch/>
          </p:blipFill>
          <p:spPr>
            <a:xfrm>
              <a:off x="2505240" y="763200"/>
              <a:ext cx="1438200" cy="16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1499400" y="2577960"/>
              <a:ext cx="230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108960" y="2577960"/>
              <a:ext cx="230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099760" y="2577960"/>
              <a:ext cx="230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3"/>
            <a:stretch/>
          </p:blipFill>
          <p:spPr>
            <a:xfrm>
              <a:off x="4172040" y="692280"/>
              <a:ext cx="1914480" cy="180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4"/>
            <a:stretch/>
          </p:blipFill>
          <p:spPr>
            <a:xfrm>
              <a:off x="1823040" y="3163680"/>
              <a:ext cx="1198800" cy="119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" descr=""/>
            <p:cNvPicPr/>
            <p:nvPr/>
          </p:nvPicPr>
          <p:blipFill>
            <a:blip r:embed="rId5"/>
            <a:stretch/>
          </p:blipFill>
          <p:spPr>
            <a:xfrm>
              <a:off x="3765960" y="3041640"/>
              <a:ext cx="1443240" cy="144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4372560" y="4641840"/>
              <a:ext cx="2304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306880" y="4641840"/>
              <a:ext cx="2304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6839280" y="4941720"/>
            <a:ext cx="230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Молекула «гость»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Линейная ПЭ цеп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ch=48-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4160" y="4941720"/>
            <a:ext cx="6563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Молекула «хозяин»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  <a:ea typeface="新細明體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sum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=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)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新細明體"/>
              </a:rPr>
              <a:t>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звезда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新細明體"/>
              </a:rPr>
              <a:t> 6x8, b) 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звезда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新細明體"/>
              </a:rPr>
              <a:t>5x9, c)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звезда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新細明體"/>
              </a:rPr>
              <a:t> 4x12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新細明體"/>
              </a:rPr>
              <a:t>d)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Дендример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新細明體"/>
              </a:rPr>
              <a:t> 3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-ей генерации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新細明體"/>
              </a:rPr>
              <a:t>(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все частицы заряжен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新細明體"/>
              </a:rPr>
              <a:t>e)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Дендример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新細明體"/>
              </a:rPr>
              <a:t>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4-ой генерац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新細明體"/>
              </a:rPr>
              <a:t>(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заряжены концевые групп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6"/>
          <a:stretch/>
        </p:blipFill>
        <p:spPr>
          <a:xfrm>
            <a:off x="6948360" y="1557360"/>
            <a:ext cx="1017720" cy="29512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988280" y="-7920"/>
            <a:ext cx="145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Мод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859280" y="2924280"/>
            <a:ext cx="3529080" cy="3084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39640" y="476280"/>
            <a:ext cx="3097440" cy="21477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5364000" y="0"/>
            <a:ext cx="3240360" cy="24130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395280" y="3433680"/>
            <a:ext cx="3889440" cy="22622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303600" y="6093000"/>
            <a:ext cx="123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ch=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261800" y="2421000"/>
            <a:ext cx="123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ch=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02520" y="234936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106360" y="5751360"/>
            <a:ext cx="123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ch=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60360" y="260280"/>
            <a:ext cx="44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Звезда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4X12 +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линейный П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5T13:11:33Z</dcterms:created>
  <dc:creator>Toshiba</dc:creator>
  <dc:description/>
  <dc:language>en-US</dc:language>
  <cp:lastModifiedBy>владелец</cp:lastModifiedBy>
  <dcterms:modified xsi:type="dcterms:W3CDTF">2009-06-05T05:52:18Z</dcterms:modified>
  <cp:revision>71</cp:revision>
  <dc:subject/>
  <dc:title>Biarrit</dc:title>
</cp:coreProperties>
</file>